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FE2E-0B57-49A1-8583-60915B635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C2B9-772A-4DD3-8008-F9ECEB98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139C-9466-40A6-AF73-CC5128989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2B65-889B-44D2-B786-538DD5D6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9997-88D3-40C6-8B3C-D0A2AFC7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600C-3CD8-4E64-99A5-604A9C4E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8DED-4372-4D34-86DE-B808D2AB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E8EC-BED8-4FA7-8884-B1B269FE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164F-2E33-4D03-AAC7-53466BAD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BF25-C0AD-47C5-B248-14505FC9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9262-7D71-438C-8CCF-7064E595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D439-295D-4C2A-B9E5-5758819F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C58B-FFE4-442D-83A7-9B99A35A0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GPT response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oly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offer our thanks and pra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0:02:37Z</dcterms:created>
  <dc:creator>Anon Anon</dc:creator>
  <dc:description/>
  <dc:language>en-US</dc:language>
  <cp:lastModifiedBy>Anon Anon</cp:lastModifiedBy>
  <dcterms:modified xsi:type="dcterms:W3CDTF">2005-08-09T05:22:07Z</dcterms:modified>
  <cp:revision>8</cp:revision>
  <dc:subject/>
  <dc:title>GPT Response (SLD-2)</dc:title>
</cp:coreProperties>
</file>